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E0D-3B56-45F6-9A89-796266AA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62C-E5EA-40F3-9D45-2E48783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C79-5561-4B72-BE50-ADF85278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748-F651-494A-A621-C00A7FF0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1B1-2690-4954-9B03-48EE23A5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150-66A9-41BB-946E-37694273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B9C-BD80-42C2-B394-308D3B7D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9022-E7BD-43D2-A915-E97F35E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D614-355A-46D2-A6A4-AD5293B8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EE89-4BCF-4682-BDF0-306FE399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5BBD-1C9A-4834-ACAF-24979A0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25C-97AE-4A12-94C1-A6164759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C10-96D0-497F-B3C0-4F8DF46A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8166-2A3F-48B8-89B5-C77A002F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873-C128-4698-849F-91553F5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422F-669D-4B2C-853D-78F131F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2F5-AAE4-4AC8-9A25-6C36C709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4207-9C92-4C74-8FC8-B2FB59BD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5E1A-C03D-47D2-A959-C84AB5D0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3B87-42A0-41B2-883F-25F65C78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F12E-7206-4F2C-88C6-887C7F4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DCF0-116B-47F2-8CA1-B706C65B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460-B178-47F4-B0AD-C776FDE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CD86-2672-469C-8C20-B9B5577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B4DA-3692-46B5-BC16-674BB3B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B98A-9C0A-4437-A3BB-50A8CBE0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9D85-C304-4DEB-AE5F-B3650A6E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AFF7-6C4E-4BAC-A1A0-176924A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508A-0F63-47FE-A744-40FD5805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A5FA-6010-4C00-9633-260CC780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1EDF-5C29-423F-9A61-E8A2C531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4B79-3073-40DA-86A6-C794843C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CEBB-6784-4CF3-BA32-C357ADE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6A0-A246-4673-8CE4-62847B20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BD18-5075-4027-ABEA-695F859F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AC06-ED41-4314-AB97-7D62E3AC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06D1-6B45-4DC6-920A-B35EBA7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6810-7F09-40E9-9023-D9D3E04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45FC-838D-44D3-A8FF-E389040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868D-E10B-4D80-ADDB-401A261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626A-E09B-442F-836D-4C1DEDBF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25F9-9361-425C-BCFF-7F75D353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C2D4-1670-4E31-B969-C60CDF61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8D9A-F69D-4959-A35E-393D77E6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71A-4375-471D-9E0B-6ED40B6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25247-781E-4FF0-A405-37F0A8B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92C3-BDB5-41B4-B999-3FBE9612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7DF8-897C-4D3C-A782-B6638E6C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0B13-5D7E-4C7E-8E7B-76D746B0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60C8-4DF7-4865-A124-722E56F8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48D5-A5A4-496A-B82F-51D65822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D6E3-9D3C-40AB-9559-E31019B0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4924-6052-4B52-881D-48205A2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6444E-72E6-4D7B-9F54-CCC6C00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7D08-7338-4D26-A6E7-8849C2B0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C06-96B5-4B4E-BE05-692E94F2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7397F-2611-4EDC-A5FD-8678E42E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86F8-C5A6-4360-B94D-AC74B94F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7D05-79EA-43D9-8BA0-BF347B0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A2C2-FEA2-483D-A9D8-AFA5595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ECE85-C63D-4233-B4A3-42C76BF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7140-69AE-43FF-AC10-0B4B828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FDD19-6DBF-4E8B-9776-898D0FC8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CD857-33E3-4A6A-BD94-50A7382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B4794-E507-4F29-8857-5993576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6E73-FD3F-48C9-9BF7-CCDEBD7D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10F-6CCA-49F1-B8BC-381E5DA0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A8771-FB51-40D9-92C6-7D442330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704F-5A91-470B-81EE-6EBC1FF3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7D45B-8349-47D2-9828-8F3117D9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8BB2-7CA3-47C0-A2B3-712AF056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439F3-C3C8-4237-8023-E99C9723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E866D-B753-49A2-8B40-66E1758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4406-F973-4A81-81FF-805FDCE0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3F9E-C3FE-4813-A670-1280C89E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D58A-7819-4DE4-A6E6-97374AA2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BF0FD-7A74-4634-B72A-655FC32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3DB-4BEF-40BE-8DE8-D89875B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E7F5-DF5B-444B-B466-05FC17D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FF93-A89C-45B2-86B2-40ED53E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4A73E-326E-4FD7-A9F9-14739F9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224A-0D1E-4D5F-B0AC-93EEF57A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7EAC8-BC99-488B-B728-CAE1B591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B3462-FF5C-4BD9-BD36-A9E0E5B3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0EB7-C949-4219-A123-4D17F1A2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37CA-023C-4E84-994E-E155407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2C88-811B-48E1-BF89-DCB611B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29FB1-41AC-40DA-994A-9D9CA22C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0FE-CF97-42E8-88FC-A4A0C90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67341-7AD7-4D1D-85A7-864BCC3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59D81-85BF-4F3D-9BE6-2A3A2634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F9045-D886-43F5-B858-C026A31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FF63-A778-45C2-9BD7-57539C7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4B893-2DD6-4A7F-A250-A08D11F5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A1AD-1B91-4971-9B68-0B8D3B67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C06A-5227-4223-8927-99689F5A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D4A-8135-4EB0-A044-8FF47E83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Triangolo isosce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44F-2245-4F0E-9F1B-0E394A7005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C0B-9DD6-4BF0-9BA3-09BEBF7A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angolo rettangolo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Triangolo isosce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Connettore 1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Connettore 1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83AE-8221-4D73-AB7E-16933FEDE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9DC-F61F-424B-A374-435DE2A7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437-C090-467F-A7EA-436B8C98A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395-2B1C-40DD-8EB4-1FBD06290C3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348-B0C9-4C92-8705-467B4F38E39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5" descr=""/>
          <p:cNvPicPr/>
          <p:nvPr/>
        </p:nvPicPr>
        <p:blipFill>
          <a:blip r:embed="rId1"/>
          <a:stretch/>
        </p:blipFill>
        <p:spPr>
          <a:xfrm>
            <a:off x="444600" y="3998880"/>
            <a:ext cx="8254800" cy="65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SAA_1a_LOGO_NUOVO_2008"/>
          <p:cNvPicPr/>
          <p:nvPr/>
        </p:nvPicPr>
        <p:blipFill>
          <a:blip r:embed="rId2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iverità"/>
          <p:cNvPicPr/>
          <p:nvPr/>
        </p:nvPicPr>
        <p:blipFill>
          <a:blip r:embed="rId3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 OPERAZIONI DI FINANZIAMENTO BANCARI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nsiderazioni introdut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f.ssa Paola De Vincenti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f.ssa Eleonora Isa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olo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53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Un quadro di sintes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PRESTITI ALLE IMPRES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ESTITI A BREVE 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Aperture di credit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conto cambiari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Anticipi S.B.F. su ricevute bancarie e fattur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Factor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Anticipazioni garantit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ESTITI A MEDIO-LUNGO 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Mutuo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ESTITI DI FIRM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PRESTITI ALLE FAMIGLI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Mutui ipotecari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Credito al consum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olo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350" name="Sottotitolo 2" descr=""/>
          <p:cNvPicPr/>
          <p:nvPr/>
        </p:nvPicPr>
        <p:blipFill>
          <a:blip r:embed="rId2"/>
          <a:stretch/>
        </p:blipFill>
        <p:spPr>
          <a:xfrm>
            <a:off x="596880" y="2914560"/>
            <a:ext cx="8285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’espressione “politica dei prestiti” fa riferimento all’insieme di decisioni assunte dal top management della banca in relazione all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MENSIONE del portafoglio presti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POSIZIONE del portafoglio presti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QUALITA’ del portafoglio presti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220464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trumentale al processo di crescita della ban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levante per la redditività della banca anche in termini di cross-sell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itica per il trade-off tra dimensione e rischi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250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ATTORI INTERNI (leve manageriali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 funzione obiettivo degli organi di governo della ban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e caratteristiche della raccolt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’assetto strutturale e organizzativo della ban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ATTORI ESTERNI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Quadro macroeconomico di riferiment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ivello di maturità della clientel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opensione di individui e imprese alla detenzione di attività finanziari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truttura e concorrenzialità del settore bancario nell’area geografica di riferiment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I criteri di composizione del portafoglio prestiti mirano a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TTENERE UN’ADEGUATA REMUNERAZIONE dei fondi impiega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NIMIZZARE il rischio complessivo diversificando le esposizioni creditiz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settore di attività economic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area geografica dei settori affidat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classi dimensional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forme tecniche di finanziament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volumi e durate degli affidament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condizioni di tass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valuta di denominazione degli affidament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isurabile in termini di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BILITA’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rivilegiando rapporti di lungo periodo e a 360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ASTICITA’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ermettendo rapidi aggiustamenti qualitativi e quantitativi in risposta a mutate condizioni di mercato, della banca stessa e delle normative di riferimento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ISCHIOSITA’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definendo un livello medio di rischio medio gestibile e allo stesso tempo remunerativo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olo 1" descr=""/>
          <p:cNvPicPr/>
          <p:nvPr/>
        </p:nvPicPr>
        <p:blipFill>
          <a:blip r:embed="rId1"/>
          <a:stretch/>
        </p:blipFill>
        <p:spPr>
          <a:xfrm>
            <a:off x="390600" y="311040"/>
            <a:ext cx="8454960" cy="1425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915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Le regole in materia di concentrazione dei rischi mirano a salvaguardare la stabilità dell’intermediario, limitando la concessione di finanziamenti di importo rilevante rispetto al patrimonio di vigilanz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Le finalità nello specifico sono due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mitare la perdita potenziale massima derivante dall’insolvenza di una singola contropar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ntenere un soddisfacente grado di frazionamento del rischio creditizio del portafoglio prestit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 limiti si applicano a qualsiasi forma di finanziamento e garanzia offerta alla clientela che comporti un rischio di credi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9656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2060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er “grandi rischi” si intendono le esposizioni creditizie più consistenti (&gt; 10% PV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IMITE INDIVIDU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l singolo grande fido non può superare il 25% del patrimonio di vigilanz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MITE COMPLESSIV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 somma dei grandi fidi non può superare 8 volte il patrimonio di vigilanz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7:43:01Z</dcterms:created>
  <dc:creator> Isaia</dc:creator>
  <dc:description/>
  <dc:language>en-US</dc:language>
  <cp:lastModifiedBy>Eleonora</cp:lastModifiedBy>
  <dcterms:modified xsi:type="dcterms:W3CDTF">2012-06-18T11:53:18Z</dcterms:modified>
  <cp:revision>49</cp:revision>
  <dc:subject/>
  <dc:title>Introduzione alle forme di impiego delle banche</dc:title>
</cp:coreProperties>
</file>